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1B06-FD41-49C0-93C9-1C54B9336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 is one among the most popular genome brow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rity is due to its usability and the glyph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ariety of glyphs will allow the depic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enome features such as coding sequences, reading frames, centromeres, point access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quantitative data such as microarray or tiling array data, GC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quence alignments (gaps, mismatches, indel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research trends are expanding the genomic studies from centralized research community databases (eg: FlyBase, Ensembl) to much smaller and specific databases owned by individual molecular biology labs, more so because of low cost sequencing techniques being made available and as a result biologists are doing their own sequen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research trends are expanding the genomic studies from centralized research community databases (eg: FlyBase, Ensembl) to much smaller and specific databases owned by individual molecular biology labs, more so because of low cost sequencing techniques being made available and as a result biologists are doing their own sequen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cumentation/instructions are intended for a professional bioinformatician. GBrowse setup, not an easy task for a typical biolog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cumentation/instructions are intended for a professional bioinformatician. GBrowse setup, not an easy task for a typical biolog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at CGB, wanted to bring GBrowse a little more closer to Biologists by allowing them more control over the GBrowse Administration without actually worrying about the details about installation and configu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came up with Web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F2C-8960-42C9-A3EA-BFE57E16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932-C759-4EF9-8049-E16F0597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FCB-9D72-463B-ACF4-0495E460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746-C1ED-4D64-88F8-D0C32978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28D-EACF-4C1C-9875-4EE15B9F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9BAE-D3D0-40B1-9020-DDF278BC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D7F-5C24-43F1-BD31-2BE8647E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CCE-E45C-46BE-935E-06964157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20B-8714-4544-A8AD-5F99FED0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4799-47AC-463B-A77B-486704CC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577-1A84-4E3A-851F-F340F99A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C24-4467-41E2-9C85-E172E9F6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1624-C605-4E8B-97FB-7952BB8CB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ebgbrowse.cgb.indiana.edu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aml.org/" TargetMode="External"/><Relationship Id="rId2" Type="http://schemas.openxmlformats.org/officeDocument/2006/relationships/hyperlink" Target="http://www.yaml.org/" TargetMode="External"/><Relationship Id="rId3" Type="http://schemas.openxmlformats.org/officeDocument/2006/relationships/hyperlink" Target="http://www.yaml.org/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ebgbrowse.cgb.indiana.edu/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A Web Server for GBrows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2997360"/>
            <a:ext cx="5400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8"/>
                </a:solidFill>
                <a:latin typeface="Arial"/>
              </a:rPr>
              <a:t>Ram Podicheti </a:t>
            </a:r>
            <a:r>
              <a:rPr b="0" lang="en-US" sz="1400" spc="-1" strike="noStrike">
                <a:solidFill>
                  <a:srgbClr val="585858"/>
                </a:solidFill>
                <a:latin typeface="Arial"/>
              </a:rPr>
              <a:t>B.V.Sc. &amp; A.H. (D.V.M.), M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Arial"/>
              </a:rPr>
              <a:t>Staff Scientist – Bioinfor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Arial"/>
              </a:rPr>
              <a:t>Center for Genomics and Bioinfor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Arial"/>
              </a:rPr>
              <a:t>Indian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164360" y="3357720"/>
            <a:ext cx="56196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1960" y="566100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/16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Conferenc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 Diego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gbrowse.cgb.indiana.ed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67000" y="2666880"/>
            <a:ext cx="6210000" cy="2562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4572000" y="2565360"/>
            <a:ext cx="0" cy="12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2565360"/>
            <a:ext cx="1079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50560" y="2421000"/>
            <a:ext cx="21848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pload the GFF3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851280" y="2060640"/>
            <a:ext cx="0" cy="244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206064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49480" y="1916280"/>
            <a:ext cx="27806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rovide Email Address 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348000" y="1557360"/>
            <a:ext cx="0" cy="3240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1557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2000" y="1413000"/>
            <a:ext cx="16804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pload the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72320" cy="3181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1619280" y="443664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20720" y="5805360"/>
            <a:ext cx="3959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76760" y="5494320"/>
            <a:ext cx="252468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nique Feature set Ident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rom the upload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5912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62578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72320" cy="3181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1619280" y="443664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20720" y="5805360"/>
            <a:ext cx="3959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76760" y="5494320"/>
            <a:ext cx="252468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nique Feature set Ident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rom the upload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997360"/>
            <a:ext cx="1008000" cy="72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72320" cy="3181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1619280" y="443664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20720" y="5805360"/>
            <a:ext cx="3959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76760" y="5494320"/>
            <a:ext cx="252468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nique Feature set Ident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rom the upload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627280" y="1699920"/>
            <a:ext cx="0" cy="115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1700280"/>
            <a:ext cx="2952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1800" y="1413000"/>
            <a:ext cx="194112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st of glyphs suppl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y the glyph 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843280" y="4435560"/>
            <a:ext cx="0" cy="144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5877000"/>
            <a:ext cx="2735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73160" y="5707080"/>
            <a:ext cx="31539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rief description of the selected gly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32360" y="3716280"/>
            <a:ext cx="0" cy="1657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5373720"/>
            <a:ext cx="646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4600" y="5202360"/>
            <a:ext cx="31906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 Sample Image of the selected gly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55640" y="4797000"/>
            <a:ext cx="0" cy="79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5589720"/>
            <a:ext cx="115272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dd Tra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yph Parameter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1255680"/>
            <a:ext cx="6410520" cy="4981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V="1">
            <a:off x="4932360" y="1989000"/>
            <a:ext cx="0" cy="362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1989000"/>
            <a:ext cx="266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96360" y="1700280"/>
            <a:ext cx="125856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arame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ed Tracks shown in the configuration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5200" y="1600200"/>
            <a:ext cx="8553600" cy="3657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V="1">
            <a:off x="1692360" y="4508640"/>
            <a:ext cx="0" cy="151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602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0960" y="5851440"/>
            <a:ext cx="223200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st of tracks added so f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788000" y="4724280"/>
            <a:ext cx="0" cy="865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558972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05520" y="5419800"/>
            <a:ext cx="2954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figuration for the selected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971640" y="508608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6453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5640" y="6283440"/>
            <a:ext cx="15523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dit Track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484360" y="5130720"/>
            <a:ext cx="0" cy="819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59500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360" y="5805360"/>
            <a:ext cx="17596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lete Track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020000" y="5084280"/>
            <a:ext cx="0" cy="57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20000" y="5661000"/>
            <a:ext cx="36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80360" y="5281560"/>
            <a:ext cx="15433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utton to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figured tr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 GBrow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2262240"/>
            <a:ext cx="8496000" cy="35431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Browse Display with WebGBrowse Control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55640" y="191628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1916280"/>
            <a:ext cx="23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3440" y="1746360"/>
            <a:ext cx="241020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ebGBrowse Control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Genome Brow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opular web based genome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e genome features along a reference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customiz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set of “glyph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m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Al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p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a data structure compatible with HTML::Form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into the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lize into a YAML file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aml.org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gbrowse.cgb.indiana.ed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resources on the web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p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the glyph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uploading of a pre-existing conf file and start from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"General Section" configuration 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more features (Balloons, plugins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zing the 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 on how to add new 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bac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ons from GMO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olchik, D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3) The UCSC Genome Browser Databas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ic Acids 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1, 51-5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lueter, S.D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6) xGDB: open-source computational infrastructure for the integrated evaluation and analysis of genome feature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ome Bi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7, R1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ker, J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4) The Ensembl Web site: mechanics of a genome browser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ome 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4, 951-95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in, L.D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2) The generic genome browser: a building block for a model organism system databas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ome 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2, 1599-16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1749600" cy="2186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10880" y="2454120"/>
            <a:ext cx="231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jesh Gollapu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uate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 of 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03280" y="4122720"/>
            <a:ext cx="1749600" cy="2185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855240" y="4975200"/>
            <a:ext cx="42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Qunfeng D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 Bio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Genomics and Bio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1749240" cy="2185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55240" y="3645000"/>
            <a:ext cx="42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 Hemme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ff Scientist &amp; Database Unit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Genomics and Bio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66920" y="1714680"/>
            <a:ext cx="46101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6320" y="3141720"/>
            <a:ext cx="641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search was supported in part by the Indiana METACy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ve of Indiana University, funded in part through a maj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from the Lilly Endowment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of GBrowse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79280" y="2276640"/>
            <a:ext cx="4546440" cy="118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cale databases such as Community databases, Model organism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7600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59640" y="2852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34800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21964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6000" y="2421000"/>
            <a:ext cx="15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equencing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340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house sequencing and data maintenance by molecular biology labs and 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492280"/>
            <a:ext cx="11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Research 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of GBrowse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79280" y="2276640"/>
            <a:ext cx="4546440" cy="1180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Large Scale databases such as Community databases, Model organism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844640"/>
            <a:ext cx="770580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pecific, but smaller databases such as a lab owned database or Individual Researcher’s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installation an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F3 datase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the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oftware installation an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GFF3 datase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riting the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80000" y="3876840"/>
            <a:ext cx="2967120" cy="2589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56000" y="3357720"/>
            <a:ext cx="2087280" cy="936360"/>
          </a:xfrm>
          <a:prstGeom prst="cloudCallout">
            <a:avLst>
              <a:gd name="adj1" fmla="val -46425"/>
              <a:gd name="adj2" fmla="val 825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492280"/>
            <a:ext cx="2303280" cy="1152720"/>
          </a:xfrm>
          <a:prstGeom prst="cloudCallout">
            <a:avLst>
              <a:gd name="adj1" fmla="val -11611"/>
              <a:gd name="adj2" fmla="val 976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GBrowse Available to Biologists wit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hass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ries about GBrowse configuration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424240" y="2781360"/>
            <a:ext cx="42955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WebGBrowse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users to upload their GFF3 data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ed by a Glyp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information for 40+ gly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s in Configuring the display of each genomic feature into individual tr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s the datasets with the specified configuration settings on an integrated GBrows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6:33:10Z</dcterms:created>
  <dc:creator>Meijia Gao</dc:creator>
  <dc:description/>
  <dc:language>en-US</dc:language>
  <cp:lastModifiedBy>Meijia Gao</cp:lastModifiedBy>
  <dcterms:modified xsi:type="dcterms:W3CDTF">2009-01-16T17:43:38Z</dcterms:modified>
  <cp:revision>69</cp:revision>
  <dc:subject/>
  <dc:title>WebGBrowse                                   A Web Server for GBrowse Configuration</dc:title>
</cp:coreProperties>
</file>